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027-4050-4B10-8941-7C65DD6D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6DC-1B5A-49DF-9AEC-85C04638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3A5-0ADB-493C-8642-F63EEAEE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28B-6230-4ADF-8B16-2BA41FDA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691-C168-46FB-9423-7987FA88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3A5-26BA-4D2E-9E48-73D78ECC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AA1-E07F-4D3D-8DBC-3D9023A3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54B-A5F9-472F-8697-7C590243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A9F-7256-46B0-B02D-453A7369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454-AD4E-43ED-85C5-5D6DDD59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F7F-760D-44FA-ADEF-6719552B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7C5-D2F8-47CC-8ABB-41F7CB62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D0AC-1FBA-434D-B249-015A9DB742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1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00040" y="1424160"/>
            <a:ext cx="7929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υναμ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κρι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ρχιερε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βασιλε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ολε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γνωσ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2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14200" y="1643040"/>
            <a:ext cx="507204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ερευ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στασι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μματευ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ι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5929200" y="25146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ερ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929200" y="31701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στασεω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929200" y="38052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μματε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929200" y="444348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2 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500040" y="1424160"/>
            <a:ext cx="79297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ελ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με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κοτ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σθεν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ὀ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786120" y="377028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Plural Masculin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em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786120" y="47991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786120" y="5283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214200" y="1643040"/>
            <a:ext cx="528660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θο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θενη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. 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ευο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θνο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5929200" y="25146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929200" y="31701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θεν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929200" y="38052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ευ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929200" y="444348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θνε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4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2 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5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42920" y="1285920"/>
            <a:ext cx="49291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αγε εἰς τα ἐθν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εινῳ τῳ ἐτει ὁ βασιλευς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γραμματεις εἰπον κατα του Ἰη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ετρος οὐ προσεχει τῳ ἀρχιερ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ἀληθεις μαθηται εἰσιν ἐν τῃ πολ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α πιστεως ἐχομεν ἐλπιδα δοξη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054760" y="20304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art to the Gent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045040" y="25416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at year the king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054760" y="3048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ribes spoke against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045040" y="356076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ter does not pay attentio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igh pri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057640" y="45864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rue disciples are in the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057640" y="5089680"/>
            <a:ext cx="41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faith we have hope of gl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67360" y="6278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6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42920" y="1214280"/>
            <a:ext cx="49291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χω μερος της βασιλε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ζητων την ἀληθειαν και δυναμ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αμβαν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king’s father spoke to the high pri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his mercy God rescues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054760" y="1959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a share of the king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045040" y="247032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ne who seeks truth also receives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5054760" y="347508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ατηρ του βασιλεως εἰπεν τῳ ἀρχιερε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072040" y="448632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α το ἐλεος αὐτου ὁ θεος ῥυεται ἡμα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072040" y="52862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τε περιεπατουμεν ὑπο κρισι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142920" y="5180040"/>
            <a:ext cx="4572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we lived under ju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ith found its true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072040" y="578484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(ἡ) πιστις εὑρεν το ἀληθες τελος αὐτη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00040" y="1424160"/>
            <a:ext cx="79297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ασ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αν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α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αντ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3786120" y="325584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euter 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3786120" y="427212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3786120" y="52941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euter 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42920" y="1604880"/>
            <a:ext cx="450036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ντες οἱ πατερες ἀπεθ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ξω το εὐαγγελιον ἐ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σιν τοις ἐθνε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ς ἐθαυμασεν δια παντα ἁ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οι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σωτηρ παντων προσευχε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586400" y="23432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e fathers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572000" y="277164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ll preach the good news in all the 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572000" y="357192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one was amazed because of all the things which he wa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572000" y="48290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aviour of all is pr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9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41200" y="2746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3.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500040" y="1609560"/>
            <a:ext cx="49291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δεις ἐστιν ἀγαθ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δον μιαν πολ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χ εὑρες οὐδ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τε μηδεν μηδεν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ν ὁτι ἐστιν εἱς κυριος και μια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κλησι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χω ἑν προβατο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5054760" y="20304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no one g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045040" y="25416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/they saw one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054760" y="3048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n’t you find anyt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045040" y="356076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y nothing to anyone (l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 to nobody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5057640" y="4586400"/>
            <a:ext cx="41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id that there was one Lord and one 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5057640" y="55926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one sh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39400" y="126828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1:39:49Z</dcterms:created>
  <dc:creator>Sarah</dc:creator>
  <dc:description/>
  <dc:language>en-US</dc:language>
  <cp:lastModifiedBy>Sarah</cp:lastModifiedBy>
  <dcterms:modified xsi:type="dcterms:W3CDTF">2009-08-09T11:05:09Z</dcterms:modified>
  <cp:revision>32</cp:revision>
  <dc:subject/>
  <dc:title>Slide 1</dc:title>
</cp:coreProperties>
</file>